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62F-3577-456B-A066-96A33CE8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8C7-E6E4-4A5B-9CB0-FF5DF80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047-F69C-4493-B0E6-305CEE8D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99C-D6C8-4971-BF7D-6D6B4DC4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397-938D-4BA2-AD4E-4FA908D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652-83B5-4DA9-9625-4F77F81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6A7-A1CB-4BD3-B7B5-DABDD6E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E5A-7E54-46E9-8AC4-B9877C60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56F-CB9C-4004-B14D-DC6841B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257-5B9A-4471-8006-9AFDB22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98B-52E6-4595-A807-8CA68F0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27C-4531-4023-B7E8-DE907C7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0C62-96B7-4C6E-AB93-EBE1368A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s &amp; Sist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7. br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8. m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9. fa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0. af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1. 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sis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2. cen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5. 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1. 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sis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2. cen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s &amp; Sist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5. af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sis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s &amp; Sist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524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flowerbed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7. br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waterfall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8. moth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underneath 9. fa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overall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  10. afterward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  11. otherwis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Sist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fea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0:46:15Z</dcterms:created>
  <dc:creator>Kathryn.Cobb</dc:creator>
  <dc:description/>
  <dc:language>en-US</dc:language>
  <cp:lastModifiedBy>Kathryn Cobb</cp:lastModifiedBy>
  <cp:lastPrinted>2009-03-12T10:56:09Z</cp:lastPrinted>
  <dcterms:modified xsi:type="dcterms:W3CDTF">2009-03-12T10:57:26Z</dcterms:modified>
  <cp:revision>3</cp:revision>
  <dc:subject/>
  <dc:title>Brothers &amp; Sisters Group A </dc:title>
</cp:coreProperties>
</file>